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CDB-5DBD-4EF8-AC86-BCCB1185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34D0-8032-4D18-8FD9-4C18620F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5599-C317-44C2-B89D-BC44A463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DEF-B424-4D47-823D-24AB260A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6692-F83A-40DC-B3E9-27F9CFF1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091A-7694-4DAD-9824-AC75F5D2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8F58-2DA8-4BFF-AD4A-047E090B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9D18-B574-4F23-9064-B409890F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AF30-C909-48D4-884D-8D9B311B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CA86-52A4-44EA-AAED-4C9E45C0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FAE4-7D81-4500-B44E-F8E92140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B96-55EB-4B51-8633-9E4C385C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7911-AC1E-416C-B191-3D47756A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15C0-5B48-45B9-A014-193A0673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C492-60CD-40B2-8892-30923C4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619F-8145-445E-B8CA-9520DEAB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B3E3-3D3D-4CA0-8D0D-408B3D89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12715-CCA0-4947-B782-35ECE4DD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4E85-D50B-4094-ACFD-CB3AE15F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A5CD-1986-4A63-8631-00BAEEC5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66016-9A13-441D-9F01-A47DDAC5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FE7D0-A494-40D0-A773-7F0D714B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65C6-C5E8-46BB-9BF6-D8B18C0C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F5536-3218-4E20-AF8D-D821A5D5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89CE7-2FB1-4116-A59C-698D6C57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C1BD-70EE-47B8-A1E3-0A7567D7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600AF-E334-4065-9E1C-D6543A7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C57B-3591-48F4-B44A-6829FE19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929A5-5124-4423-8792-4B5F383CF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5BA9-8BA0-4B2A-8BA8-B3273AD8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28681-1801-4AB5-AF4C-5F961FA0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5BA01-0D63-4F10-87FD-1EEDFA3B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220D1-3550-494C-94D8-5DD45CC1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B051-0601-4C98-BE73-8B7A89E2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8BCEA-7A00-47B9-B821-D9618B9E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BFD9-2B75-483C-A16E-AD06E27F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AE4B6-2EEC-44B5-9B57-63095ADF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1193A-4C47-439D-877C-9D5DD24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FE795-BC4F-49EE-856D-93EAE987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E2586-8323-4512-AE28-CA208874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F8F11-7B0A-4470-B3E2-6DE73038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BFAAE-4770-431C-8029-8A36F648E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23E0-BBC4-4C7C-AAC3-479FFACD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63BC7-7DF4-4629-8F3E-92BE209F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769-F1C5-49F3-B0F7-D8E13233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D1CDA-39B4-4038-8250-A6FCBAE4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05F9A-1322-440A-9FD7-4BAB0165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BC57F-DBF0-4E70-825E-77F9D3DD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C6830-8748-47EC-AFEE-C1161772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C9AA6-BEBE-4287-9517-2B0A1F6E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51E66-5EF3-4FAC-893E-FC424983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B3388-5B77-4D70-BE7B-7CEFFE30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7353-16FA-4752-9D9D-91D53F63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1CC3E-438E-4696-A2AF-BD5D3B55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CA841-48BC-446B-AB7D-93F3B5CE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4A42-1C56-4908-8865-CA12C82E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7AC46-EE6B-4098-ACB0-9E4911BD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757-F248-4ED0-B3CE-5466C42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FEE-DB08-4D90-868C-BFFFA8ED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071-8E65-42CC-B1C8-DD68F027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65240" y="150840"/>
            <a:ext cx="9777240" cy="7257960"/>
          </a:xfrm>
          <a:prstGeom prst="rect">
            <a:avLst/>
          </a:prstGeom>
          <a:noFill/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1213-F697-4187-AD2D-6DE624484CE4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0" y="-33480"/>
            <a:ext cx="9996120" cy="7594920"/>
            <a:chOff x="0" y="-33480"/>
            <a:chExt cx="9996120" cy="7594920"/>
          </a:xfrm>
        </p:grpSpPr>
        <p:sp>
          <p:nvSpPr>
            <p:cNvPr id="43" name="Straight Connector 109"/>
            <p:cNvSpPr/>
            <p:nvPr/>
          </p:nvSpPr>
          <p:spPr>
            <a:xfrm>
              <a:off x="2099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76400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93212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83880" y="0"/>
              <a:ext cx="252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0" y="0"/>
              <a:ext cx="2520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764000" y="0"/>
              <a:ext cx="1008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419760" y="0"/>
              <a:ext cx="504000" cy="75607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87880" y="0"/>
              <a:ext cx="4197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17576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6704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68012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87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756000" y="0"/>
              <a:ext cx="67176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1091880" y="0"/>
              <a:ext cx="1558080" cy="75607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353680" y="0"/>
              <a:ext cx="33372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60352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512000" y="0"/>
              <a:ext cx="4449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71040" y="0"/>
              <a:ext cx="38844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512000" y="0"/>
              <a:ext cx="22680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1091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3438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872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53636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704120" y="0"/>
              <a:ext cx="41976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855880" y="0"/>
              <a:ext cx="252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772000" y="0"/>
              <a:ext cx="2520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611160" y="720"/>
              <a:ext cx="144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3192120" y="0"/>
              <a:ext cx="50400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360240" y="0"/>
              <a:ext cx="419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94812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93940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452120" y="0"/>
              <a:ext cx="167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360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520000" y="0"/>
              <a:ext cx="25200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864240" y="0"/>
              <a:ext cx="1558080" cy="75607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5126040" y="0"/>
              <a:ext cx="33372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546012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4284360" y="0"/>
              <a:ext cx="4449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443400" y="0"/>
              <a:ext cx="38844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428436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864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4116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720480" y="0"/>
              <a:ext cx="167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88024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655236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627880" y="0"/>
              <a:ext cx="33588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70412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630036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918040" y="0"/>
              <a:ext cx="1558080" cy="7560720"/>
            </a:xfrm>
            <a:prstGeom prst="line">
              <a:avLst/>
            </a:prstGeom>
            <a:ln w="9360">
              <a:solidFill>
                <a:srgbClr val="d16349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974280" y="0"/>
              <a:ext cx="33372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804000" y="0"/>
              <a:ext cx="33588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6191280" y="0"/>
              <a:ext cx="4449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613224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628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88024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7476480" y="0"/>
              <a:ext cx="25200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7476480" y="0"/>
              <a:ext cx="2520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8231760" y="720"/>
              <a:ext cx="144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812360" y="0"/>
              <a:ext cx="504000" cy="75607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980480" y="0"/>
              <a:ext cx="419760" cy="75607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856836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81236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7644600" y="0"/>
              <a:ext cx="25200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8231760" y="0"/>
              <a:ext cx="388440" cy="75607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90460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84844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87364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949248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915660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9324720" y="0"/>
              <a:ext cx="419760" cy="7560720"/>
            </a:xfrm>
            <a:prstGeom prst="line">
              <a:avLst/>
            </a:prstGeom>
            <a:ln w="5076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9072720" y="0"/>
              <a:ext cx="167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9785520" y="-33480"/>
              <a:ext cx="210600" cy="759420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904600" y="0"/>
              <a:ext cx="44496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904600" y="0"/>
              <a:ext cx="22680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9911880" y="720"/>
              <a:ext cx="1440" cy="75607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6552000" y="0"/>
              <a:ext cx="8388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7056360" y="0"/>
              <a:ext cx="16776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7140240" y="0"/>
              <a:ext cx="419760" cy="7560720"/>
            </a:xfrm>
            <a:prstGeom prst="line">
              <a:avLst/>
            </a:prstGeom>
            <a:ln w="1908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964120" y="0"/>
              <a:ext cx="335880" cy="75607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7055640" y="0"/>
              <a:ext cx="388440" cy="75607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728480" y="0"/>
              <a:ext cx="419760" cy="75607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896240" y="0"/>
              <a:ext cx="1091880" cy="75607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5040360" y="0"/>
              <a:ext cx="504000" cy="75607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2100240"/>
            <a:ext cx="5460840" cy="344340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268360"/>
            <a:ext cx="5292720" cy="3108600"/>
            <a:chOff x="0" y="2268360"/>
            <a:chExt cx="5292720" cy="310860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268360"/>
              <a:ext cx="5292000" cy="1440"/>
            </a:xfrm>
            <a:prstGeom prst="line">
              <a:avLst/>
            </a:prstGeom>
            <a:ln w="1908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5375520"/>
              <a:ext cx="5292000" cy="1440"/>
            </a:xfrm>
            <a:prstGeom prst="line">
              <a:avLst/>
            </a:prstGeom>
            <a:ln w="1908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5292000" y="2269080"/>
              <a:ext cx="720" cy="3106080"/>
            </a:xfrm>
            <a:prstGeom prst="line">
              <a:avLst/>
            </a:prstGeom>
            <a:ln w="1908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1DF-AFFC-4A9F-90BC-77BE312A893C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0" y="-33480"/>
            <a:ext cx="9996120" cy="5342400"/>
            <a:chOff x="0" y="-33480"/>
            <a:chExt cx="9996120" cy="5342400"/>
          </a:xfrm>
        </p:grpSpPr>
        <p:sp>
          <p:nvSpPr>
            <p:cNvPr id="173" name="Straight Connector 7"/>
            <p:cNvSpPr/>
            <p:nvPr/>
          </p:nvSpPr>
          <p:spPr>
            <a:xfrm>
              <a:off x="2099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76400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93212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83880" y="-9720"/>
              <a:ext cx="252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0" y="-9720"/>
              <a:ext cx="2520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764000" y="-9720"/>
              <a:ext cx="1008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419760" y="-9720"/>
              <a:ext cx="504000" cy="53179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87880" y="-9720"/>
              <a:ext cx="4197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17576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6704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680120" y="-9720"/>
              <a:ext cx="167760" cy="5317920"/>
            </a:xfrm>
            <a:prstGeom prst="line">
              <a:avLst/>
            </a:prstGeom>
            <a:ln w="5724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87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52000" y="2160"/>
              <a:ext cx="504000" cy="530640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1091880" y="-9720"/>
              <a:ext cx="1558080" cy="53179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353680" y="-9720"/>
              <a:ext cx="33372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60352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512000" y="-9720"/>
              <a:ext cx="4449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71040" y="-9720"/>
              <a:ext cx="38844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51200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1091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3438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872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53636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704120" y="-9720"/>
              <a:ext cx="41976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856240" y="-9720"/>
              <a:ext cx="252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772000" y="-9720"/>
              <a:ext cx="2520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611160" y="-9000"/>
              <a:ext cx="144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3192120" y="-9720"/>
              <a:ext cx="50400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360240" y="-9720"/>
              <a:ext cx="4197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94812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93940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45212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360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520000" y="-9720"/>
              <a:ext cx="25200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864240" y="-9720"/>
              <a:ext cx="1558080" cy="5317920"/>
            </a:xfrm>
            <a:prstGeom prst="line">
              <a:avLst/>
            </a:prstGeom>
            <a:ln w="9360">
              <a:solidFill>
                <a:srgbClr val="d16349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5126040" y="-9720"/>
              <a:ext cx="33372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546012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4284360" y="-9720"/>
              <a:ext cx="4449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443400" y="-9720"/>
              <a:ext cx="38844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428436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864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411624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720480" y="-9720"/>
              <a:ext cx="167760" cy="5317920"/>
            </a:xfrm>
            <a:prstGeom prst="line">
              <a:avLst/>
            </a:prstGeom>
            <a:ln w="5724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88024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655236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627880" y="-9720"/>
              <a:ext cx="33588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70412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630036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918040" y="-9720"/>
              <a:ext cx="1558080" cy="5317920"/>
            </a:xfrm>
            <a:prstGeom prst="line">
              <a:avLst/>
            </a:prstGeom>
            <a:ln w="9360">
              <a:solidFill>
                <a:srgbClr val="d16349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974280" y="-9720"/>
              <a:ext cx="33372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804000" y="-9720"/>
              <a:ext cx="33588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6191280" y="-9720"/>
              <a:ext cx="4449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613224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628240" y="-9720"/>
              <a:ext cx="167760" cy="5317920"/>
            </a:xfrm>
            <a:prstGeom prst="line">
              <a:avLst/>
            </a:prstGeom>
            <a:ln w="57240">
              <a:solidFill>
                <a:srgbClr val="d16349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79636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7476480" y="-9720"/>
              <a:ext cx="25200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7476480" y="-9720"/>
              <a:ext cx="2520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8231760" y="-9000"/>
              <a:ext cx="144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812360" y="-9720"/>
              <a:ext cx="504000" cy="5317920"/>
            </a:xfrm>
            <a:prstGeom prst="line">
              <a:avLst/>
            </a:prstGeom>
            <a:ln w="9360">
              <a:solidFill>
                <a:srgbClr val="d16349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980480" y="-9720"/>
              <a:ext cx="419760" cy="5317920"/>
            </a:xfrm>
            <a:prstGeom prst="line">
              <a:avLst/>
            </a:prstGeom>
            <a:ln w="1260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856872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81236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7644600" y="-9720"/>
              <a:ext cx="25200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8231760" y="-9720"/>
              <a:ext cx="388440" cy="53179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90460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84844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87364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949248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915660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932472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9072720" y="-9720"/>
              <a:ext cx="167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9785520" y="-33480"/>
              <a:ext cx="210600" cy="534168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904600" y="-9720"/>
              <a:ext cx="44496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904600" y="-9720"/>
              <a:ext cx="22680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9911880" y="-9000"/>
              <a:ext cx="1440" cy="5317920"/>
            </a:xfrm>
            <a:prstGeom prst="line">
              <a:avLst/>
            </a:prstGeom>
            <a:ln w="158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6552000" y="-9720"/>
              <a:ext cx="8388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7056360" y="-9720"/>
              <a:ext cx="16776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7140600" y="-9720"/>
              <a:ext cx="419760" cy="5317920"/>
            </a:xfrm>
            <a:prstGeom prst="line">
              <a:avLst/>
            </a:prstGeom>
            <a:ln w="1908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964120" y="-9720"/>
              <a:ext cx="335880" cy="5317920"/>
            </a:xfrm>
            <a:prstGeom prst="line">
              <a:avLst/>
            </a:prstGeom>
            <a:ln w="47520">
              <a:solidFill>
                <a:srgbClr val="d16349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7055640" y="-9720"/>
              <a:ext cx="388440" cy="5317920"/>
            </a:xfrm>
            <a:prstGeom prst="line">
              <a:avLst/>
            </a:prstGeom>
            <a:ln w="15840">
              <a:solidFill>
                <a:srgbClr val="d16349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728480" y="-9720"/>
              <a:ext cx="419760" cy="5317920"/>
            </a:xfrm>
            <a:prstGeom prst="line">
              <a:avLst/>
            </a:prstGeom>
            <a:ln w="936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896240" y="-9720"/>
              <a:ext cx="1091880" cy="5317920"/>
            </a:xfrm>
            <a:prstGeom prst="line">
              <a:avLst/>
            </a:prstGeom>
            <a:ln w="28440">
              <a:solidFill>
                <a:srgbClr val="d16349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5040360" y="-9720"/>
              <a:ext cx="504000" cy="5317920"/>
            </a:xfrm>
            <a:prstGeom prst="line">
              <a:avLst/>
            </a:prstGeom>
            <a:ln w="38160">
              <a:solidFill>
                <a:srgbClr val="d16349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753080"/>
            <a:ext cx="10080720" cy="209844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835520"/>
            <a:ext cx="10080720" cy="32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765840"/>
            <a:ext cx="10080720" cy="180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198-F6AC-4483-BBAE-1F22F4E30A96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724040"/>
            <a:ext cx="3044880" cy="365112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906640" y="1887480"/>
            <a:ext cx="0" cy="332748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887480"/>
            <a:ext cx="2922480" cy="32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5218200"/>
            <a:ext cx="2922480" cy="14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69B7-10E5-4D65-9B9D-E41D0DCCBC44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724040"/>
            <a:ext cx="3044880" cy="3651120"/>
          </a:xfrm>
          <a:prstGeom prst="rect">
            <a:avLst/>
          </a:prstGeom>
          <a:solidFill>
            <a:srgbClr val="d1634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906640" y="1887480"/>
            <a:ext cx="0" cy="332748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887480"/>
            <a:ext cx="2922480" cy="32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5218200"/>
            <a:ext cx="2922480" cy="1440"/>
          </a:xfrm>
          <a:prstGeom prst="line">
            <a:avLst/>
          </a:prstGeom>
          <a:ln w="1908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fffef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ff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01680" indent="-30168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1" marL="603360" indent="-200160">
              <a:spcBef>
                <a:spcPts val="649"/>
              </a:spcBef>
              <a:buClr>
                <a:srgbClr val="e3a192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2" marL="1006560" indent="-250920">
              <a:spcBef>
                <a:spcPts val="649"/>
              </a:spcBef>
              <a:buClr>
                <a:srgbClr val="ccb4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3" marL="1309680" indent="-250920">
              <a:spcBef>
                <a:spcPts val="649"/>
              </a:spcBef>
              <a:buClr>
                <a:srgbClr val="8cadae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4" marL="1611360" indent="-250920">
              <a:spcBef>
                <a:spcPts val="649"/>
              </a:spcBef>
              <a:buClr>
                <a:srgbClr val="8c7b7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5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  <a:p>
            <a:pPr lvl="6" marL="1611360" indent="-2509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50292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3121200" y="6958080"/>
            <a:ext cx="383832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7224480" y="6958080"/>
            <a:ext cx="2352600" cy="403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646b8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A7E2-6505-4706-9B56-65D42B135427}" type="slidenum">
              <a:rPr b="0" lang="en-US" sz="1300" spc="-1" strike="noStrike">
                <a:solidFill>
                  <a:srgbClr val="646b86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Рисунок 1" descr=""/>
          <p:cNvPicPr/>
          <p:nvPr/>
        </p:nvPicPr>
        <p:blipFill>
          <a:blip r:embed="rId1"/>
          <a:stretch/>
        </p:blipFill>
        <p:spPr>
          <a:xfrm>
            <a:off x="0" y="-7920"/>
            <a:ext cx="10260000" cy="7559640"/>
          </a:xfrm>
          <a:prstGeom prst="rect">
            <a:avLst/>
          </a:prstGeom>
          <a:ln w="0">
            <a:noFill/>
          </a:ln>
        </p:spPr>
      </p:pic>
      <p:pic>
        <p:nvPicPr>
          <p:cNvPr id="391" name="Заголовок 2" descr=""/>
          <p:cNvPicPr/>
          <p:nvPr/>
        </p:nvPicPr>
        <p:blipFill>
          <a:blip r:embed="rId2"/>
          <a:stretch/>
        </p:blipFill>
        <p:spPr>
          <a:xfrm>
            <a:off x="225360" y="2955960"/>
            <a:ext cx="9279000" cy="107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E:\Documents and Settings\Admin\Мои документы\Мои рисунки\esenin\sergey-esenin-13s.jpg"/>
          <p:cNvPicPr/>
          <p:nvPr/>
        </p:nvPicPr>
        <p:blipFill>
          <a:blip r:embed="rId1"/>
          <a:stretch/>
        </p:blipFill>
        <p:spPr>
          <a:xfrm>
            <a:off x="168120" y="826920"/>
            <a:ext cx="9744120" cy="5905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E:\Documents and Settings\Admin\Мои документы\Мои рисунки\esenin\berrosh.jpg"/>
          <p:cNvPicPr/>
          <p:nvPr/>
        </p:nvPicPr>
        <p:blipFill>
          <a:blip r:embed="rId1"/>
          <a:stretch/>
        </p:blipFill>
        <p:spPr>
          <a:xfrm>
            <a:off x="255600" y="754200"/>
            <a:ext cx="9567720" cy="6049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E:\Documents and Settings\Admin\Мои документы\Мои рисунки\esenin\dog.jpg"/>
          <p:cNvPicPr/>
          <p:nvPr/>
        </p:nvPicPr>
        <p:blipFill>
          <a:blip r:embed="rId1"/>
          <a:stretch/>
        </p:blipFill>
        <p:spPr>
          <a:xfrm>
            <a:off x="2676600" y="250920"/>
            <a:ext cx="4727520" cy="70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719280" y="201600"/>
            <a:ext cx="8642160" cy="715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E:\Documents and Settings\Admin\Мои документы\Мои рисунки\esenin\kachalov.jpg"/>
          <p:cNvPicPr/>
          <p:nvPr/>
        </p:nvPicPr>
        <p:blipFill>
          <a:blip r:embed="rId1"/>
          <a:stretch/>
        </p:blipFill>
        <p:spPr>
          <a:xfrm>
            <a:off x="2303640" y="290520"/>
            <a:ext cx="5473440" cy="697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E:\Documents and Settings\Admin\Мои документы\Мои рисунки\esenin\2.jpg"/>
          <p:cNvPicPr/>
          <p:nvPr/>
        </p:nvPicPr>
        <p:blipFill>
          <a:blip r:embed="rId1"/>
          <a:stretch/>
        </p:blipFill>
        <p:spPr>
          <a:xfrm>
            <a:off x="2376360" y="155520"/>
            <a:ext cx="5327640" cy="724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ext Placeholder 2" descr=""/>
          <p:cNvPicPr/>
          <p:nvPr/>
        </p:nvPicPr>
        <p:blipFill>
          <a:blip r:embed="rId1"/>
          <a:stretch/>
        </p:blipFill>
        <p:spPr>
          <a:xfrm>
            <a:off x="431640" y="250920"/>
            <a:ext cx="9217080" cy="691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0410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E:\Documents and Settings\Admin\Мои документы\Мои рисунки\esenin\уesenin.jpg"/>
          <p:cNvPicPr/>
          <p:nvPr/>
        </p:nvPicPr>
        <p:blipFill>
          <a:blip r:embed="rId1"/>
          <a:stretch/>
        </p:blipFill>
        <p:spPr>
          <a:xfrm>
            <a:off x="1079640" y="149400"/>
            <a:ext cx="7921440" cy="7261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2" descr="E:\Documents and Settings\Admin\Мои документы\Мои рисунки\esenin\Рисунок3.jpg"/>
          <p:cNvPicPr/>
          <p:nvPr/>
        </p:nvPicPr>
        <p:blipFill>
          <a:blip r:embed="rId1"/>
          <a:stretch/>
        </p:blipFill>
        <p:spPr>
          <a:xfrm>
            <a:off x="2655720" y="190440"/>
            <a:ext cx="4767480" cy="7178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E:\Documents and Settings\Admin\Мои документы\Мои рисунки\esenin\Рисунок2.jpg"/>
          <p:cNvPicPr/>
          <p:nvPr/>
        </p:nvPicPr>
        <p:blipFill>
          <a:blip r:embed="rId1"/>
          <a:stretch/>
        </p:blipFill>
        <p:spPr>
          <a:xfrm>
            <a:off x="2519280" y="250920"/>
            <a:ext cx="4867200" cy="7046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E:\Documents and Settings\Admin\Мои документы\Мои рисунки\esenin\1.jpg"/>
          <p:cNvPicPr/>
          <p:nvPr/>
        </p:nvPicPr>
        <p:blipFill>
          <a:blip r:embed="rId1"/>
          <a:stretch/>
        </p:blipFill>
        <p:spPr>
          <a:xfrm>
            <a:off x="1566720" y="230040"/>
            <a:ext cx="6946920" cy="70995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E:\Documents and Settings\Admin\Мои документы\Мои рисунки\esenin\sergey-esenin-1s.jpg"/>
          <p:cNvPicPr/>
          <p:nvPr/>
        </p:nvPicPr>
        <p:blipFill>
          <a:blip r:embed="rId1"/>
          <a:stretch/>
        </p:blipFill>
        <p:spPr>
          <a:xfrm>
            <a:off x="2232000" y="135000"/>
            <a:ext cx="5616720" cy="7289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2" descr="E:\Documents and Settings\Admin\Мои документы\Мои рисунки\esenin\sergey-esenin-5s.jpg"/>
          <p:cNvPicPr/>
          <p:nvPr/>
        </p:nvPicPr>
        <p:blipFill>
          <a:blip r:embed="rId1"/>
          <a:stretch/>
        </p:blipFill>
        <p:spPr>
          <a:xfrm>
            <a:off x="2930400" y="324000"/>
            <a:ext cx="4218120" cy="691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E:\Documents and Settings\Admin\Мои документы\Мои рисунки\esenin\sergey-esenin-4s.jpg"/>
          <p:cNvPicPr/>
          <p:nvPr/>
        </p:nvPicPr>
        <p:blipFill>
          <a:blip r:embed="rId1"/>
          <a:stretch/>
        </p:blipFill>
        <p:spPr>
          <a:xfrm>
            <a:off x="2668680" y="179280"/>
            <a:ext cx="4743360" cy="720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E:\Documents and Settings\Admin\Мои документы\Мои рисунки\esenin\derevnia.jpg"/>
          <p:cNvPicPr/>
          <p:nvPr/>
        </p:nvPicPr>
        <p:blipFill>
          <a:blip r:embed="rId1"/>
          <a:stretch/>
        </p:blipFill>
        <p:spPr>
          <a:xfrm>
            <a:off x="431640" y="243000"/>
            <a:ext cx="9217080" cy="707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E:\Documents and Settings\Admin\Мои документы\Мои рисунки\esenin\sergey-esenin-36s.jpg"/>
          <p:cNvPicPr/>
          <p:nvPr/>
        </p:nvPicPr>
        <p:blipFill>
          <a:blip r:embed="rId1"/>
          <a:stretch/>
        </p:blipFill>
        <p:spPr>
          <a:xfrm>
            <a:off x="2827440" y="179280"/>
            <a:ext cx="4425840" cy="720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2" descr="E:\Documents and Settings\Admin\Мои документы\Мои рисунки\esenin\ber2.jpg"/>
          <p:cNvPicPr/>
          <p:nvPr/>
        </p:nvPicPr>
        <p:blipFill>
          <a:blip r:embed="rId1"/>
          <a:stretch/>
        </p:blipFill>
        <p:spPr>
          <a:xfrm>
            <a:off x="285840" y="250920"/>
            <a:ext cx="9509040" cy="7057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9f9"/>
            </a:gs>
            <a:gs pos="100000">
              <a:srgbClr val="b3b3b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E:\Documents and Settings\Admin\Мои документы\Мои рисунки\esenin\klen.jpg"/>
          <p:cNvPicPr/>
          <p:nvPr/>
        </p:nvPicPr>
        <p:blipFill>
          <a:blip r:embed="rId1"/>
          <a:stretch/>
        </p:blipFill>
        <p:spPr>
          <a:xfrm>
            <a:off x="182520" y="217440"/>
            <a:ext cx="9715680" cy="7124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9:52:18Z</dcterms:created>
  <dc:creator/>
  <dc:description/>
  <dc:language>en-US</dc:language>
  <cp:lastModifiedBy>Шура</cp:lastModifiedBy>
  <dcterms:modified xsi:type="dcterms:W3CDTF">2011-11-03T13:33:59Z</dcterms:modified>
  <cp:revision>6</cp:revision>
  <dc:subject/>
  <dc:title>«Не жалею, не зову, не плачу…»</dc:title>
</cp:coreProperties>
</file>